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6781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6781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e574e"/>
                </a:solidFill>
                <a:latin typeface="Arial"/>
              </a:rPr>
              <a:t>draft-ietf-ccamp-lmp-02.t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1" lang="en-US" sz="800" spc="-1" strike="noStrike">
                <a:solidFill>
                  <a:srgbClr val="5e574e"/>
                </a:solidFill>
                <a:latin typeface="Arial"/>
              </a:rPr>
              <a:t> Link Management Protocol (LM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711360" y="6229440"/>
            <a:ext cx="19303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e574e"/>
                </a:solidFill>
                <a:latin typeface="Arial"/>
              </a:rPr>
              <a:t>draft-ietf-ccamp-lmp-00.t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4" name="paint" descr=""/>
          <p:cNvPicPr/>
          <p:nvPr/>
        </p:nvPicPr>
        <p:blipFill>
          <a:blip r:embed="rId3"/>
          <a:stretch/>
        </p:blipFill>
        <p:spPr>
          <a:xfrm>
            <a:off x="380880" y="563868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160"/>
            <a:ext cx="289584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1" lang="en-US" sz="800" spc="-1" strike="noStrike">
                <a:solidFill>
                  <a:srgbClr val="5e574e"/>
                </a:solidFill>
                <a:latin typeface="Arial"/>
              </a:rPr>
              <a:t> Link Management Protocol (LM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MP draft updates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raft-ietf-ccamp-lmp-07.t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raft-ietf-ccamp-lmp-wdm-01.t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raft-ietf-ccamp-lmp-test-sonet-sdh-00.t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raft-lang-ccamp-lmp-bootstrap-01.tx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ft-ietf-ccamp-lmp-07.t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–04 ver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dded terminology s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nhanced Security Considerations s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nhanced IANA Clarifications se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ditorial chang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moved LMP Checksu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oved BeginVerifyTransport flags for specfic encoding types to technology-specific draf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raft-ietf-ccamp-lmp-06.txt finished WG Last Ca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pdated draft based on comme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blished draft-ietf-ccamp-lmp-07.tx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ady for IESG Last Ca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draft-ietf-ccamp-lmp-wdm-01.txt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ce the –00 ver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jor editorial overhau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d “LMP-WDM support” bit to new LMP-WDM_CONFIG objec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d SONET/SDH Trace monitoring mechanism to technology-specific draf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ublished draft-ietf-ccamp-lmp-wdm-01.txt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ady for Working Group Last Cal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draft-ietf-ccamp-lmp-test-sonet-sdh-00.tx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tent of this draft came fr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raft-ietf-ccamp-lmp-04.tx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raft-ietf-ccamp-lmp-wdm-00.tx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dded terminology sec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ublished draft-ietf-ccamp-lmp-test-sonet-sdh-00.txt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do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Remove J0-64 forma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fter changes, ready for Working Group Last Cal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draft-lang-ccamp-lmp-bootstrap-01.tx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-band message used to announce Interface Id (i.e., port Id), Node Id, Control interface I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ce the –00 ver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Editorial chang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ad edit on J0-16 format (removed Interface Id accidentally)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xt steps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olicit technical comments on the list…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00:48Z</dcterms:created>
  <dc:creator>Jonathan Lang</dc:creator>
  <dc:description>Version: draft-ietf-ccamp-lmp-03.txt</dc:description>
  <dc:language>en-US</dc:language>
  <cp:lastModifiedBy>rbonica</cp:lastModifiedBy>
  <cp:lastPrinted>2000-01-20T17:35:01Z</cp:lastPrinted>
  <dcterms:modified xsi:type="dcterms:W3CDTF">2002-11-21T13:59:55Z</dcterms:modified>
  <cp:revision>92</cp:revision>
  <dc:subject/>
  <dc:title>Link Management Protocol (LMP)</dc:title>
</cp:coreProperties>
</file>